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4FBA-A1EC-40DC-938E-C4C39C0C95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1680" y="3913920"/>
            <a:ext cx="850248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3EF4-8560-41EE-BD04-00849AE6C4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5840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3339-B904-4033-90AB-9862DEF206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6280" y="152568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1240" y="152568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1680" y="391392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6280" y="391392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1240" y="391392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0CF05-422D-4A08-A3ED-4138C6A6B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7355-0E03-457E-A139-09B6C35185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0AE1B-F694-4391-B8F9-E2E1B6C80B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8CDE0-4A6D-4C9F-99EB-39CA40197D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CA568-CDAF-4F2B-B338-9483AA6B894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2BCC-1DD4-4C8C-8A32-1BBDA59B86F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1320" y="227160"/>
            <a:ext cx="853452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1AE6-E91C-4BAD-80AB-95B2B630CE0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68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B260F-8593-494E-AC8C-C1B4E2CCD83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DF87-FC5D-41DE-8CD5-27861593B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5840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08BAE-9C0B-407F-989F-24E2B954171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3913920"/>
            <a:ext cx="850248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F11B7-29AD-49B1-844C-BEFF7291205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1680" y="3913920"/>
            <a:ext cx="850248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839A9-3E8D-4D39-AE23-7CAA8275CD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68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5840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58BE9-9E4D-4E64-B670-36C9EE30E8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76280" y="152568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51240" y="152568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1680" y="391392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76280" y="391392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51240" y="3913920"/>
            <a:ext cx="273744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82EA-3D86-4A73-B297-8394FD3FCD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4DA7-67A4-42DD-96AE-3628B36CB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87F92-80B1-4CD8-B434-AAF5123A26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D89F2-7E8A-4186-9D98-0B665F1B8E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1320" y="227160"/>
            <a:ext cx="853452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B17B0-B0EC-40F4-AC65-814BBB7E19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168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CFD40-BD07-4F13-AE53-1958EAF8C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58400" y="391392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A6562-7FA1-4DEB-BA44-D87E996FB3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8400" y="1525680"/>
            <a:ext cx="414900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1680" y="3913920"/>
            <a:ext cx="8502480" cy="2180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C0D5-2DC9-4E9E-BF79-3DCEC64C7E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83000"/>
          </a:bodyPr>
          <a:p>
            <a:pPr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Click to edit the outline text format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  <a:p>
            <a:pPr lvl="1" marL="347760" algn="ctr">
              <a:spcBef>
                <a:spcPts val="400"/>
              </a:spcBef>
              <a:buClr>
                <a:srgbClr val="646b86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Second Outline Level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  <a:p>
            <a:pPr lvl="2" marL="727200" algn="ctr"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Third Outline Level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  <a:p>
            <a:pPr lvl="3" marL="1106640" algn="ctr">
              <a:spcBef>
                <a:spcPts val="400"/>
              </a:spcBef>
              <a:buClr>
                <a:srgbClr val="646b86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Fourth Outline Level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  <a:p>
            <a:pPr lvl="4" marL="1486080" algn="ctr"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Fifth Outline Level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  <a:p>
            <a:pPr lvl="5" marL="1486080" algn="ctr"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Sixth Outline Level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  <a:p>
            <a:pPr lvl="6" marL="1486080" algn="ctr">
              <a:spcBef>
                <a:spcPts val="400"/>
              </a:spcBef>
              <a:buClr>
                <a:srgbClr val="000000"/>
              </a:buClr>
              <a:buFont typeface="Georg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b86"/>
                </a:solidFill>
                <a:latin typeface="Georgia Bold"/>
              </a:rPr>
              <a:t>Seventh Outline Level</a:t>
            </a: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4421160" y="2322360"/>
            <a:ext cx="300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a9798"/>
                </a:solidFill>
                <a:latin typeface="Georgia"/>
                <a:ea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B678-DBEA-4F31-A3A9-34D5192FEF33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Click to edit the title text format</a:t>
            </a: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a9798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4438440" y="1149480"/>
            <a:ext cx="301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a9798"/>
                </a:solidFill>
                <a:latin typeface="Georgia"/>
                <a:ea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167F2-0187-4A44-9D22-897BAB0FB369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09760" indent="-274680">
              <a:spcBef>
                <a:spcPts val="601"/>
              </a:spcBef>
              <a:buClr>
                <a:srgbClr val="ccb400"/>
              </a:buClr>
              <a:buSzPct val="69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784080" indent="-228600">
              <a:spcBef>
                <a:spcPts val="601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58760" indent="-228600">
              <a:spcBef>
                <a:spcPts val="601"/>
              </a:spcBef>
              <a:buClr>
                <a:srgbClr val="8c7b70"/>
              </a:buClr>
              <a:buSzPct val="69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33440" indent="-228600">
              <a:spcBef>
                <a:spcPts val="601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33440" indent="-228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33440" indent="-228600"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6705720"/>
            <a:ext cx="9156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"/>
          <p:cNvSpPr/>
          <p:nvPr/>
        </p:nvSpPr>
        <p:spPr>
          <a:xfrm>
            <a:off x="8991720" y="1440"/>
            <a:ext cx="16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566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"/>
          <p:cNvSpPr/>
          <p:nvPr/>
        </p:nvSpPr>
        <p:spPr>
          <a:xfrm>
            <a:off x="146160" y="6391440"/>
            <a:ext cx="884556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"/>
          <p:cNvSpPr/>
          <p:nvPr/>
        </p:nvSpPr>
        <p:spPr>
          <a:xfrm>
            <a:off x="154080" y="2419200"/>
            <a:ext cx="8834400" cy="0"/>
          </a:xfrm>
          <a:prstGeom prst="line">
            <a:avLst/>
          </a:prstGeom>
          <a:ln w="11520">
            <a:solidFill>
              <a:srgbClr val="7a97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152280"/>
            <a:ext cx="8845560" cy="6546960"/>
          </a:xfrm>
          <a:prstGeom prst="rect">
            <a:avLst/>
          </a:prstGeom>
          <a:noFill/>
          <a:ln w="9360">
            <a:solidFill>
              <a:srgbClr val="7a9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"/>
          <p:cNvSpPr/>
          <p:nvPr/>
        </p:nvSpPr>
        <p:spPr>
          <a:xfrm>
            <a:off x="4361040" y="2209680"/>
            <a:ext cx="420480" cy="41940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a97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421160" y="2322360"/>
            <a:ext cx="30024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9014-4752-44C7-AE7D-DA5A9673E3AA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b86"/>
              </a:solidFill>
              <a:latin typeface="Georgia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The French Resistance</a:t>
            </a:r>
            <a:endParaRPr b="0" lang="en-US" sz="4200" spc="-1" strike="noStrike">
              <a:solidFill>
                <a:srgbClr val="d16349"/>
              </a:solidFill>
              <a:latin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6705720"/>
            <a:ext cx="9156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5660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"/>
          <p:cNvSpPr/>
          <p:nvPr/>
        </p:nvSpPr>
        <p:spPr>
          <a:xfrm>
            <a:off x="8991720" y="0"/>
            <a:ext cx="16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"/>
          <p:cNvSpPr/>
          <p:nvPr/>
        </p:nvSpPr>
        <p:spPr>
          <a:xfrm>
            <a:off x="149400" y="6388200"/>
            <a:ext cx="88452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154080"/>
            <a:ext cx="8845560" cy="6548400"/>
          </a:xfrm>
          <a:prstGeom prst="rect">
            <a:avLst/>
          </a:prstGeom>
          <a:noFill/>
          <a:ln w="9360">
            <a:solidFill>
              <a:srgbClr val="7a9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a97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"/>
          <p:cNvSpPr/>
          <p:nvPr/>
        </p:nvSpPr>
        <p:spPr>
          <a:xfrm>
            <a:off x="4361040" y="1049400"/>
            <a:ext cx="420480" cy="4204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a97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438440" y="1149480"/>
            <a:ext cx="301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A5F3-E4A3-4F33-BA11-1F8ACA99C451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a9798"/>
                </a:solidFill>
                <a:latin typeface="Georgia"/>
              </a:rPr>
              <a:t>The Fall</a:t>
            </a:r>
            <a:r>
              <a:rPr b="0" lang="en-US" sz="3300" spc="-1" strike="noStrike">
                <a:solidFill>
                  <a:srgbClr val="7a9798"/>
                </a:solidFill>
                <a:latin typeface="Georgia"/>
                <a:ea typeface="ヒラギノ明朝 ProN W3"/>
              </a:rPr>
              <a:t>	</a:t>
            </a: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Germany overcame the French Army with its </a:t>
            </a:r>
            <a:r>
              <a:rPr b="0" lang="en-US" sz="2700" spc="-1" strike="noStrike">
                <a:solidFill>
                  <a:srgbClr val="000000"/>
                </a:solidFill>
                <a:latin typeface="Georgia Italic"/>
                <a:ea typeface="Georgia Italic"/>
              </a:rPr>
              <a:t>blitzkreig 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actic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ance signed an armistice with Germany in June 1940 that gave control of the government to German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ance had to pay the German Army to occupy (</a:t>
            </a:r>
            <a:r>
              <a:rPr b="0" lang="en-US" sz="2700" spc="-1" strike="noStrike">
                <a:solidFill>
                  <a:srgbClr val="000000"/>
                </a:solidFill>
                <a:latin typeface="Georgia Italic"/>
                <a:ea typeface="Georgia Italic"/>
              </a:rPr>
              <a:t>maintain military control of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) the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6705720"/>
            <a:ext cx="9156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5660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"/>
          <p:cNvSpPr/>
          <p:nvPr/>
        </p:nvSpPr>
        <p:spPr>
          <a:xfrm>
            <a:off x="8991720" y="0"/>
            <a:ext cx="16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"/>
          <p:cNvSpPr/>
          <p:nvPr/>
        </p:nvSpPr>
        <p:spPr>
          <a:xfrm>
            <a:off x="149400" y="6388200"/>
            <a:ext cx="88452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154080"/>
            <a:ext cx="8845560" cy="6548400"/>
          </a:xfrm>
          <a:prstGeom prst="rect">
            <a:avLst/>
          </a:prstGeom>
          <a:noFill/>
          <a:ln w="9360">
            <a:solidFill>
              <a:srgbClr val="7a9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a97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"/>
          <p:cNvSpPr/>
          <p:nvPr/>
        </p:nvSpPr>
        <p:spPr>
          <a:xfrm>
            <a:off x="4361040" y="1049400"/>
            <a:ext cx="420480" cy="4204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a97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438440" y="1149480"/>
            <a:ext cx="301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77CC-EA5E-4CED-A1FE-E0F48EBD2C62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a9798"/>
                </a:solidFill>
                <a:latin typeface="Georgia"/>
              </a:rPr>
              <a:t>The Fallout </a:t>
            </a: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French economy crashed and people began to get restles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German Army required French workers to supply them with weapons and good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people complained publicly, they were punished harsh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6705720"/>
            <a:ext cx="9156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5660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"/>
          <p:cNvSpPr/>
          <p:nvPr/>
        </p:nvSpPr>
        <p:spPr>
          <a:xfrm>
            <a:off x="8991720" y="0"/>
            <a:ext cx="16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"/>
          <p:cNvSpPr/>
          <p:nvPr/>
        </p:nvSpPr>
        <p:spPr>
          <a:xfrm>
            <a:off x="149400" y="6388200"/>
            <a:ext cx="88452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154080"/>
            <a:ext cx="8845560" cy="6548400"/>
          </a:xfrm>
          <a:prstGeom prst="rect">
            <a:avLst/>
          </a:prstGeom>
          <a:noFill/>
          <a:ln w="9360">
            <a:solidFill>
              <a:srgbClr val="7a9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a97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"/>
          <p:cNvSpPr/>
          <p:nvPr/>
        </p:nvSpPr>
        <p:spPr>
          <a:xfrm>
            <a:off x="4361040" y="1049400"/>
            <a:ext cx="420480" cy="4204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a97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438440" y="1149480"/>
            <a:ext cx="301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29F2-AA53-4191-8DFC-15873011EC20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a9798"/>
                </a:solidFill>
                <a:latin typeface="Georgia"/>
              </a:rPr>
              <a:t>Fighting Back</a:t>
            </a: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 French no longer had an army or government leader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ey were not able to defeat and get rid of the German Ar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However, small groups of French citizens formed a movement called the </a:t>
            </a:r>
            <a:r>
              <a:rPr b="0" lang="en-US" sz="2700" spc="-1" strike="noStrike">
                <a:solidFill>
                  <a:srgbClr val="000000"/>
                </a:solidFill>
                <a:latin typeface="Georgia Italic"/>
                <a:ea typeface="Georgia Italic"/>
              </a:rPr>
              <a:t>Res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le most French citizens were not active in the Resistance, they made sure not to help the Germans in any wa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6705720"/>
            <a:ext cx="9156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5660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"/>
          <p:cNvSpPr/>
          <p:nvPr/>
        </p:nvSpPr>
        <p:spPr>
          <a:xfrm>
            <a:off x="8991720" y="0"/>
            <a:ext cx="16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"/>
          <p:cNvSpPr/>
          <p:nvPr/>
        </p:nvSpPr>
        <p:spPr>
          <a:xfrm>
            <a:off x="149400" y="6388200"/>
            <a:ext cx="88452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154080"/>
            <a:ext cx="8845560" cy="6548400"/>
          </a:xfrm>
          <a:prstGeom prst="rect">
            <a:avLst/>
          </a:prstGeom>
          <a:noFill/>
          <a:ln w="9360">
            <a:solidFill>
              <a:srgbClr val="7a9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a97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"/>
          <p:cNvSpPr/>
          <p:nvPr/>
        </p:nvSpPr>
        <p:spPr>
          <a:xfrm>
            <a:off x="4361040" y="1049400"/>
            <a:ext cx="420480" cy="4204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a97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438440" y="1149480"/>
            <a:ext cx="301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85D1-AAB3-4220-A387-7E28F7C1D11B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a9798"/>
                </a:solidFill>
                <a:latin typeface="Georgia"/>
              </a:rPr>
              <a:t>Fighting Back</a:t>
            </a: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35080" indent="-235080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Resistance members destroyed railroad lines and factories and bombed areas where German soldiers would gath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Angry German leaders would severely punish anyone even suspected of being involved with the Resistance but attacks continued through 1944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35080" indent="-23508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ome French citizens were able to sneak out of France and get to Britain to join the Allied arm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6705720"/>
            <a:ext cx="91566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56600" cy="139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165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"/>
          <p:cNvSpPr/>
          <p:nvPr/>
        </p:nvSpPr>
        <p:spPr>
          <a:xfrm>
            <a:off x="8991720" y="0"/>
            <a:ext cx="1648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"/>
          <p:cNvSpPr/>
          <p:nvPr/>
        </p:nvSpPr>
        <p:spPr>
          <a:xfrm>
            <a:off x="149400" y="6388200"/>
            <a:ext cx="88452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"/>
          <p:cNvSpPr/>
          <p:nvPr/>
        </p:nvSpPr>
        <p:spPr>
          <a:xfrm>
            <a:off x="152280" y="154080"/>
            <a:ext cx="8845560" cy="6548400"/>
          </a:xfrm>
          <a:prstGeom prst="rect">
            <a:avLst/>
          </a:prstGeom>
          <a:noFill/>
          <a:ln w="9360">
            <a:solidFill>
              <a:srgbClr val="7a97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a9798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"/>
          <p:cNvSpPr/>
          <p:nvPr/>
        </p:nvSpPr>
        <p:spPr>
          <a:xfrm>
            <a:off x="4361040" y="1049400"/>
            <a:ext cx="420480" cy="42048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a979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38440" y="1149480"/>
            <a:ext cx="30132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A7C2-91CF-4679-BD63-25905249DE20}" type="slidenum">
              <a:rPr b="0" lang="en-US" sz="1600" spc="-1" strike="noStrike">
                <a:solidFill>
                  <a:srgbClr val="7a9798"/>
                </a:solidFill>
                <a:latin typeface="Georgia"/>
                <a:ea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1320" y="227160"/>
            <a:ext cx="8534520" cy="7603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a9798"/>
                </a:solidFill>
                <a:latin typeface="Georgia"/>
              </a:rPr>
              <a:t>Results</a:t>
            </a:r>
            <a:endParaRPr b="0" lang="en-US" sz="3300" spc="-1" strike="noStrike">
              <a:solidFill>
                <a:srgbClr val="7a9798"/>
              </a:solidFill>
              <a:latin typeface="Georg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1680" y="1525680"/>
            <a:ext cx="8502480" cy="45720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6000"/>
          </a:bodyPr>
          <a:p>
            <a:pPr marL="225360" indent="-225360">
              <a:lnSpc>
                <a:spcPct val="100000"/>
              </a:lnSpc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ile they were not able to get rid of the Germans until after D-Day, the Resistance tied up German resources and made it difficult for them to operate effectivel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rench General Charles de Gaulle was given much credit as the leader of the Resistance, but most of the work was carried out by ordinary French peopl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25360" indent="-225360">
              <a:lnSpc>
                <a:spcPct val="10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When the Allied armies invaded France to recapture it from Germany, their job was made easier by the work of the Resistanc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8th Grade</dc:creator>
  <dc:description/>
  <dc:language>en-US</dc:language>
  <cp:lastModifiedBy/>
  <cp:revision>0</cp:revision>
  <dc:subject/>
  <dc:title>The French Resistance</dc:title>
</cp:coreProperties>
</file>